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F9A-C21E-47C3-9DCC-E60978E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E58-526B-43F0-8EB5-5FF23505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C17-8D97-4A67-AC68-4A526771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5AA-8117-4398-A427-51DE9342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F36-AB0A-4D7A-84F3-FBC8BF6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93E-00AD-4C68-B3B9-5C974BF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B34-F5CF-4413-9886-5E88682C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4AC-09BB-45C9-8E6B-CDA56F0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B36-A642-4F71-9BEF-83E10DE2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8A4-E92E-4D5A-A501-3B15B59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4C1-4EB4-4FCA-AEF1-CE09FBBC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BF9-5FD5-4F7E-9DB3-911F3BC4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5D10-79BF-476C-955F-BB9D8B23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mlcoelho</cp:lastModifiedBy>
  <dcterms:modified xsi:type="dcterms:W3CDTF">2003-12-10T12:45:30Z</dcterms:modified>
  <cp:revision>2</cp:revision>
  <dc:subject/>
  <dc:title>Apresentação do PowerPoint</dc:title>
</cp:coreProperties>
</file>