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904-467D-4595-A509-EE4DC08F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945-A357-4841-A66C-BC43ABEE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7FA-6686-4128-9CF9-D8B54C72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865-492A-48AC-8CFF-4AF377AD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B63-6D95-4363-9C88-057E67C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818-AB9C-452C-9680-3201F05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ADC-680A-445D-A9FB-31CEC83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8E7-5DCE-41C6-852F-D23C6AE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D8B-CF6C-423A-A76A-BEC0717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08F-8D2F-4A9E-ABD0-A2754EA5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3D1-45FA-4897-BA31-B67D217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E78-455A-4D2E-9881-C009D76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7C20-29E9-465F-839E-255C2C48DD3B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S  DE  EST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TOS AUTÊNTICOS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Ç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ÇÃO DA INTERPRET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PÓTES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IZ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ÊNCIAS REAI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ENDIZADO  COGNITIV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 ESTÁGIO”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ABOR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 EM GRUP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ÕES MÚLTIPLA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AÇÕES  MÚLTIPLAS 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ÇÕES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7:26Z</dcterms:created>
  <dc:creator>maria de lourdes coelho</dc:creator>
  <dc:description/>
  <dc:language>en-US</dc:language>
  <cp:lastModifiedBy>maria de lourdes coelho</cp:lastModifiedBy>
  <dcterms:modified xsi:type="dcterms:W3CDTF">2003-04-29T19:27:46Z</dcterms:modified>
  <cp:revision>1</cp:revision>
  <dc:subject/>
  <dc:title>AMBIENTES  DE  ESTUDO</dc:title>
</cp:coreProperties>
</file>