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7BF01-C361-4796-9BFF-EAC6B332F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C0B9D-0006-4EA8-A5D5-F141C09A5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08B5B-B09C-4D95-BC1A-E3587F480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8D9A5-BD15-4577-80F8-888DAA38D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A658C-B13A-429A-BF2A-03834F6BE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AF843-C8F8-48A8-A3C1-530317CE8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C9261-7977-4CF4-A9DE-551DC62A0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1FDE5-4105-4D08-B843-49DD34675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E0DAE-19C9-4076-922B-93658D19C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805BC-B0BB-42B2-9380-C3FB37E35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4A2D0-ACAF-436E-BE27-151DEDB97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62E8D-4FF7-47CF-878E-460EC467E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345FB-A9BE-4559-8579-074BC33D0481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384480" y="1523880"/>
            <a:ext cx="8150040" cy="3430800"/>
            <a:chOff x="384480" y="1523880"/>
            <a:chExt cx="8150040" cy="3430800"/>
          </a:xfrm>
        </p:grpSpPr>
        <p:grpSp>
          <p:nvGrpSpPr>
            <p:cNvPr id="42" name=""/>
            <p:cNvGrpSpPr/>
            <p:nvPr/>
          </p:nvGrpSpPr>
          <p:grpSpPr>
            <a:xfrm>
              <a:off x="1142640" y="2514600"/>
              <a:ext cx="305280" cy="837720"/>
              <a:chOff x="1142640" y="2514600"/>
              <a:chExt cx="305280" cy="837720"/>
            </a:xfrm>
          </p:grpSpPr>
          <p:sp>
            <p:nvSpPr>
              <p:cNvPr id="43" name=""/>
              <p:cNvSpPr/>
              <p:nvPr/>
            </p:nvSpPr>
            <p:spPr>
              <a:xfrm>
                <a:off x="1143000" y="2514600"/>
                <a:ext cx="304920" cy="2955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1295280" y="2810160"/>
                <a:ext cx="0" cy="295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1295280" y="3106080"/>
                <a:ext cx="101520" cy="246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flipH="1">
                <a:off x="1142640" y="3106080"/>
                <a:ext cx="152280" cy="246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1143000" y="2859480"/>
                <a:ext cx="304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" name=""/>
            <p:cNvSpPr/>
            <p:nvPr/>
          </p:nvSpPr>
          <p:spPr>
            <a:xfrm>
              <a:off x="2895480" y="1523880"/>
              <a:ext cx="914400" cy="5335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971800" y="2514600"/>
              <a:ext cx="914400" cy="5331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971800" y="3352680"/>
              <a:ext cx="914400" cy="5335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743200" y="4190760"/>
              <a:ext cx="914400" cy="5335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V="1">
              <a:off x="1447920" y="2209320"/>
              <a:ext cx="137160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flipV="1">
              <a:off x="1447920" y="2895120"/>
              <a:ext cx="13716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523880" y="3200400"/>
              <a:ext cx="12956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523880" y="3429000"/>
              <a:ext cx="12193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637000" y="1981080"/>
              <a:ext cx="1547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avegar pelo catálog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745000" y="3001680"/>
              <a:ext cx="1335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esquisar produt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747160" y="3840120"/>
              <a:ext cx="1358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er preço dos iten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443680" y="4678200"/>
              <a:ext cx="1427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olicitar informaçã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" name=""/>
            <p:cNvGrpSpPr/>
            <p:nvPr/>
          </p:nvGrpSpPr>
          <p:grpSpPr>
            <a:xfrm>
              <a:off x="5576400" y="2514600"/>
              <a:ext cx="290880" cy="837720"/>
              <a:chOff x="5576400" y="2514600"/>
              <a:chExt cx="290880" cy="837720"/>
            </a:xfrm>
          </p:grpSpPr>
          <p:sp>
            <p:nvSpPr>
              <p:cNvPr id="61" name=""/>
              <p:cNvSpPr/>
              <p:nvPr/>
            </p:nvSpPr>
            <p:spPr>
              <a:xfrm flipH="1">
                <a:off x="5576040" y="2514600"/>
                <a:ext cx="290520" cy="2955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21840" y="2810160"/>
                <a:ext cx="0" cy="295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>
                <a:off x="5625360" y="3106080"/>
                <a:ext cx="96480" cy="246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5722200" y="3106080"/>
                <a:ext cx="145080" cy="246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flipH="1">
                <a:off x="5576400" y="2859480"/>
                <a:ext cx="290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" name=""/>
            <p:cNvSpPr/>
            <p:nvPr/>
          </p:nvSpPr>
          <p:spPr>
            <a:xfrm flipH="1" flipV="1">
              <a:off x="4267080" y="2209320"/>
              <a:ext cx="130968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H="1" flipV="1">
              <a:off x="4267080" y="2895120"/>
              <a:ext cx="13096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267080" y="3200400"/>
              <a:ext cx="123696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H="1">
              <a:off x="3733560" y="3429000"/>
              <a:ext cx="177012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7543800" y="2361960"/>
              <a:ext cx="914400" cy="5335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7620120" y="3352680"/>
              <a:ext cx="914400" cy="5335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V="1">
              <a:off x="6095880" y="2590200"/>
              <a:ext cx="1371600" cy="35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095880" y="3017880"/>
              <a:ext cx="1447920" cy="639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49640" y="2879640"/>
              <a:ext cx="72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adastr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7698960" y="3840120"/>
              <a:ext cx="695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r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84480" y="3429000"/>
              <a:ext cx="1334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suário convidad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413680" y="3429000"/>
              <a:ext cx="1308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suário registrad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65400" y="270000"/>
            <a:ext cx="171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refa B 2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10T12:41:30Z</dcterms:created>
  <dc:creator>mlcoelho</dc:creator>
  <dc:description/>
  <dc:language>en-US</dc:language>
  <cp:lastModifiedBy>aloizio</cp:lastModifiedBy>
  <dcterms:modified xsi:type="dcterms:W3CDTF">2003-12-19T20:58:18Z</dcterms:modified>
  <cp:revision>2</cp:revision>
  <dc:subject/>
  <dc:title>Apresentação do PowerPoint</dc:title>
</cp:coreProperties>
</file>