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6B3-7156-4CBF-A003-3E6CEC5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54B-F0E5-406D-ADAC-EF61285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B4B-E51A-4D07-B184-ECF9F7F8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86D-A273-40A3-8A45-59085DA8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85-8C69-4EF9-ADE0-BC3F2E94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F6A-418F-43F0-9C52-6FB6BE50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573-B927-46BF-836A-ADD50D1E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301-A4BE-482C-9182-3A38C7C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2DB-6432-42E3-AC3D-67CF1248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E53-FFAC-471E-96FB-A162217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B04-DBAA-4F75-A227-A48E2CA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CF8-C0DE-4FDB-8A85-07E689B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18F-CE74-4CB5-BF89-7AD634B8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mlcoelho</cp:lastModifiedBy>
  <dcterms:modified xsi:type="dcterms:W3CDTF">2003-12-10T12:45:30Z</dcterms:modified>
  <cp:revision>2</cp:revision>
  <dc:subject/>
  <dc:title>Apresentação do PowerPoint</dc:title>
</cp:coreProperties>
</file>