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41F8-D3C5-4E33-B736-1FACFC43B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813B-C8F7-4E20-8055-B2B8A4B5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AE3D-BD7C-407B-8C57-064381BCA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4597-8577-449A-9ECA-6D2EC5865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97D7-474D-4E62-BF41-82B259B3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B375-8575-48B3-AFF6-BE8C17E4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D047-1675-4BE1-86E6-D891F693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F39B-CD3D-442F-A827-7E8F86F8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8975-AEDD-422D-B4E7-7385804B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F87D-1B6F-417C-B6CB-AF05EB78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9422-2910-4018-8AB1-E156163C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E34F-7651-401A-AF67-22B0F5D4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305E-6164-4D3D-925A-90DF8E70B7A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84480" y="1523880"/>
            <a:ext cx="8150040" cy="3430800"/>
            <a:chOff x="384480" y="1523880"/>
            <a:chExt cx="8150040" cy="3430800"/>
          </a:xfrm>
        </p:grpSpPr>
        <p:grpSp>
          <p:nvGrpSpPr>
            <p:cNvPr id="42" name=""/>
            <p:cNvGrpSpPr/>
            <p:nvPr/>
          </p:nvGrpSpPr>
          <p:grpSpPr>
            <a:xfrm>
              <a:off x="1142640" y="2514600"/>
              <a:ext cx="305280" cy="837720"/>
              <a:chOff x="1142640" y="2514600"/>
              <a:chExt cx="305280" cy="837720"/>
            </a:xfrm>
          </p:grpSpPr>
          <p:sp>
            <p:nvSpPr>
              <p:cNvPr id="43" name=""/>
              <p:cNvSpPr/>
              <p:nvPr/>
            </p:nvSpPr>
            <p:spPr>
              <a:xfrm>
                <a:off x="1143000" y="2514600"/>
                <a:ext cx="304920" cy="295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295280" y="2810160"/>
                <a:ext cx="0" cy="29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1295280" y="3106080"/>
                <a:ext cx="101520" cy="24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flipH="1">
                <a:off x="1142640" y="3106080"/>
                <a:ext cx="152280" cy="24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1143000" y="285948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>
              <a:off x="2895480" y="1523880"/>
              <a:ext cx="9144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71800" y="2514600"/>
              <a:ext cx="914400" cy="53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71800" y="3352680"/>
              <a:ext cx="9144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743200" y="4190760"/>
              <a:ext cx="9144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1447920" y="2209320"/>
              <a:ext cx="1371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1447920" y="2895120"/>
              <a:ext cx="1371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23880" y="3200400"/>
              <a:ext cx="12956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23880" y="3429000"/>
              <a:ext cx="1219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637000" y="1981080"/>
              <a:ext cx="154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avegar pelo catálog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745000" y="3001680"/>
              <a:ext cx="1335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esquisar produt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747160" y="3840120"/>
              <a:ext cx="1358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er preço dos ite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3680" y="4678200"/>
              <a:ext cx="142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icitar informaçã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5576400" y="2514600"/>
              <a:ext cx="290880" cy="837720"/>
              <a:chOff x="5576400" y="2514600"/>
              <a:chExt cx="290880" cy="837720"/>
            </a:xfrm>
          </p:grpSpPr>
          <p:sp>
            <p:nvSpPr>
              <p:cNvPr id="61" name=""/>
              <p:cNvSpPr/>
              <p:nvPr/>
            </p:nvSpPr>
            <p:spPr>
              <a:xfrm flipH="1">
                <a:off x="5576040" y="2514600"/>
                <a:ext cx="290520" cy="295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21840" y="2810160"/>
                <a:ext cx="0" cy="29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>
                <a:off x="5625360" y="3106080"/>
                <a:ext cx="96480" cy="24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22200" y="3106080"/>
                <a:ext cx="145080" cy="24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>
                <a:off x="5576400" y="2859480"/>
                <a:ext cx="290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 flipH="1" flipV="1">
              <a:off x="4267080" y="2209320"/>
              <a:ext cx="13096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flipV="1">
              <a:off x="4267080" y="2895120"/>
              <a:ext cx="13096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267080" y="3200400"/>
              <a:ext cx="12369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733560" y="3429000"/>
              <a:ext cx="17701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43800" y="2361960"/>
              <a:ext cx="9144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620120" y="3352680"/>
              <a:ext cx="9144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6095880" y="2590200"/>
              <a:ext cx="1371600" cy="3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095880" y="3017880"/>
              <a:ext cx="1447920" cy="63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49640" y="2879640"/>
              <a:ext cx="72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adastr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698960" y="3840120"/>
              <a:ext cx="69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r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4480" y="3429000"/>
              <a:ext cx="133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suário convid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413680" y="3429000"/>
              <a:ext cx="130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suário registr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65400" y="27000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efa B 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0T12:41:30Z</dcterms:created>
  <dc:creator>mlcoelho</dc:creator>
  <dc:description/>
  <dc:language>en-US</dc:language>
  <cp:lastModifiedBy>aloizio</cp:lastModifiedBy>
  <dcterms:modified xsi:type="dcterms:W3CDTF">2003-12-19T20:58:18Z</dcterms:modified>
  <cp:revision>2</cp:revision>
  <dc:subject/>
  <dc:title>Apresentação do PowerPoint</dc:title>
</cp:coreProperties>
</file>