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C4F-935A-478A-AEFE-E1E98D75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BE0-804A-4A28-AA56-9453CFEC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AE3-2D3E-4D99-AE44-401E9EB7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310-F2A2-429C-AD3C-B1BB581F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159-CB05-4E31-B8D2-81B8C9A5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FB6-EE2A-4AD3-BB3D-42CDF8F7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B0A1-B319-4322-9746-41CFF1DB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5D9-4B09-489C-BD1D-0C8F7893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535-AD7D-4BAC-8D58-6435EF9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EDA-EB1F-4126-8E86-5A5EE3E9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738-E54C-4EF2-8B4E-6BA3693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FE7-208A-4743-80C1-0894863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098D-C43C-40B1-AF81-29AB2DD64FE8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S  DE  EST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TOS AUTÊNTICOS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Ç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ÇÃO DA INTERPRET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PÓTES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IZ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ÊNCIAS REAI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ENDIZADO  COGNITIV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 ESTÁGIO”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ABOR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 EM GRUP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ÕES MÚLTIPLA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AÇÕES  MÚLTIPLAS 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ÇÕES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7:26Z</dcterms:created>
  <dc:creator>maria de lourdes coelho</dc:creator>
  <dc:description/>
  <dc:language>en-US</dc:language>
  <cp:lastModifiedBy>maria de lourdes coelho</cp:lastModifiedBy>
  <dcterms:modified xsi:type="dcterms:W3CDTF">2003-04-29T19:27:46Z</dcterms:modified>
  <cp:revision>1</cp:revision>
  <dc:subject/>
  <dc:title>AMBIENTES  DE  ESTUDO</dc:title>
</cp:coreProperties>
</file>