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D00F-466A-49E8-8115-DB9B3A0A9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6BF2-E3B3-4176-BE34-CED42E33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A191-9BC9-460A-9C53-D6CD26BB7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8C86-A98C-4440-9FE4-4C118FC24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B865-0604-4CE3-878B-5B466F33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2007-AF4B-4BC2-9FA5-CBFD13E4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077F-B4B6-426B-B6F7-3B38B16C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3717-7AE7-4B41-B8E4-6178E68F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868C-BE46-4F07-8E1E-B573E008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5A34-0E41-4B04-8B5E-3BF558F5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0074-3333-49D0-B278-2C2A76CB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733D-3A33-47BB-B0F4-19F48DF9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BB31-114E-4BA8-94B5-A4F128D78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7440" y="17146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stância 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89440" y="154296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paç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43200" y="2571840"/>
            <a:ext cx="0" cy="34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2336760" y="2743200"/>
            <a:ext cx="711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20760" y="3429000"/>
            <a:ext cx="34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stância  Pedag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4000680"/>
            <a:ext cx="26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e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1360" y="2228760"/>
            <a:ext cx="0" cy="337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35240" y="5257800"/>
            <a:ext cx="5384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DISTÂNCIA  INTER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 Transacional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88520" y="1714680"/>
            <a:ext cx="62402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rte  estru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urso padronizado / fix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mesmo para todos os aluno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cesso Seqü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727280" y="800280"/>
            <a:ext cx="56894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urso Baseado em Correio Eletrô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vro Eletrô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ntor On-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strução  Program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utor com Telef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urso por Correspondê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WW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5200560"/>
            <a:ext cx="4267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ru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íveis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á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0120" y="5372280"/>
            <a:ext cx="111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27280" y="22860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ossibilidades  Confli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6440" y="120024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ru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031840" y="1257480"/>
            <a:ext cx="3454560" cy="2342880"/>
            <a:chOff x="2031840" y="1257480"/>
            <a:chExt cx="3454560" cy="2342880"/>
          </a:xfrm>
        </p:grpSpPr>
        <p:sp>
          <p:nvSpPr>
            <p:cNvPr id="86" name=""/>
            <p:cNvSpPr/>
            <p:nvPr/>
          </p:nvSpPr>
          <p:spPr>
            <a:xfrm flipV="1">
              <a:off x="2031840" y="1257480"/>
              <a:ext cx="0" cy="234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1840" y="3600360"/>
              <a:ext cx="345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876920" y="3772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álo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6920" y="1771560"/>
            <a:ext cx="826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é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u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3657600"/>
            <a:ext cx="31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ouco        Médio          Al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11360" y="4191120"/>
            <a:ext cx="7518240" cy="20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to 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ma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estrutu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en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chance de diá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to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men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strutu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ai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chance de diá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28800" y="5029200"/>
            <a:ext cx="111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28800" y="5943600"/>
            <a:ext cx="111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22360" y="1200240"/>
            <a:ext cx="77216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Men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istância Inter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L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DIÁ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BAIX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ESTRU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ula parti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sta de discus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35720" y="514440"/>
            <a:ext cx="36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Mai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istância Inter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20840" y="1600200"/>
            <a:ext cx="426708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aixo Diá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aixa 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aixo Diá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rte 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édio  Diá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rte  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édio Diá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aixa  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17440" y="1600200"/>
            <a:ext cx="0" cy="62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17440" y="2629080"/>
            <a:ext cx="0" cy="62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17440" y="3657600"/>
            <a:ext cx="0" cy="62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17440" y="4686480"/>
            <a:ext cx="0" cy="62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83360" y="1600200"/>
            <a:ext cx="30477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exto corrido s/ índ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ula exposi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ágina c/ exercício resolv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83360" y="3276720"/>
            <a:ext cx="28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strução program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ap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4648320"/>
            <a:ext cx="355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ograma Educacional c/comput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AL   -  CB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5715000"/>
            <a:ext cx="180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rreio Eletrô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17440" y="857160"/>
            <a:ext cx="7213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ISTÂNCIA  INTER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UTONOMIA  DE  APRENDIZAG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2400480"/>
            <a:ext cx="16257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stância Inter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ist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235240" y="3123720"/>
            <a:ext cx="3784680" cy="2305440"/>
            <a:chOff x="2235240" y="3123720"/>
            <a:chExt cx="3784680" cy="2305440"/>
          </a:xfrm>
        </p:grpSpPr>
        <p:sp>
          <p:nvSpPr>
            <p:cNvPr id="108" name=""/>
            <p:cNvSpPr/>
            <p:nvPr/>
          </p:nvSpPr>
          <p:spPr>
            <a:xfrm flipV="1">
              <a:off x="2235240" y="3123720"/>
              <a:ext cx="0" cy="230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35240" y="5429160"/>
              <a:ext cx="3784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7245720" y="5600880"/>
            <a:ext cx="13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utonom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ecessá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54240" y="3371760"/>
            <a:ext cx="8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é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aix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43880" y="5543640"/>
            <a:ext cx="294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aixa           Média             A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362320" y="3657240"/>
            <a:ext cx="3759120" cy="12193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27280" y="6343560"/>
            <a:ext cx="1930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162160" y="914400"/>
            <a:ext cx="4451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ISTÂNCIA  INTER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UTONOMIA  DE  APRENDIZAG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2514600"/>
            <a:ext cx="75186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Distância  Interativa  Muito A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cessita  Alunos com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Autonomia  A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Diminu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  Cada  Vez  Mais a Autonomia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o  Alu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1360" y="4400640"/>
            <a:ext cx="74167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Distância  Interativa  Muito Baix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om p/  Alunos com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Autonomia  Baix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Diminu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  Ainda mais  Mais a Autonomia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o  Alu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828800" y="5715000"/>
            <a:ext cx="5931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STÂNCIA  INTER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UTONOMIA  DE  APRENDIZAG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1542960"/>
            <a:ext cx="28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f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56080" y="628560"/>
            <a:ext cx="558792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xpos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alest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Faz Tudo pelo Aluno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opõe e faz exercí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municador Multimí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a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anç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90440" y="428616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lu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3886200"/>
            <a:ext cx="37591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est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radu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nsino Fundam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571680"/>
            <a:ext cx="0" cy="28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43200" y="382896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11360" y="609480"/>
            <a:ext cx="8026200" cy="53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PRENDIZAGEM  COOPER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Baixa Distância  Inter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álogo Al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uca  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so de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Tecnologia de Colabo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ível  Cri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nde  a 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Aumentar  a  Autonomi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de  Aprendizagem  do  Alu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4572000"/>
            <a:ext cx="0" cy="628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96920" y="2000160"/>
            <a:ext cx="398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DISTÂNCIA  INTER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4040" y="3257640"/>
            <a:ext cx="39625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DIÁ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ESTRU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41680" y="2857680"/>
            <a:ext cx="0" cy="1257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19320" y="685800"/>
            <a:ext cx="6908760" cy="33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Á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cnologia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erramentas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lef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rreio Eletrô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ó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4971960"/>
            <a:ext cx="32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á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4572000"/>
            <a:ext cx="3149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ix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é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523880" y="1486080"/>
            <a:ext cx="50799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28600"/>
            <a:ext cx="7823160" cy="41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álogo  Baix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unicação  Unidire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ula  exposi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áginas  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ídeo Conferê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Tecnologia de Distribui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77480" y="542916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f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92840" y="5429160"/>
            <a:ext cx="14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u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65560" y="5600880"/>
            <a:ext cx="1117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422360" y="743040"/>
            <a:ext cx="6807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álogo  Mé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unicação  Bi-dire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ula  particip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lef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rreio Eletrô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Tecnologia Inter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77480" y="542916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f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92840" y="5429160"/>
            <a:ext cx="14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u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65560" y="5486400"/>
            <a:ext cx="1117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165560" y="582948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09480" y="457200"/>
            <a:ext cx="81280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álogo  Al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unicação  Multidire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sta de Discus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ó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Tecnologia de Colabo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79000" y="485784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f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91320" y="4857840"/>
            <a:ext cx="14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u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65560" y="4915080"/>
            <a:ext cx="1117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2520" y="5772240"/>
            <a:ext cx="14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u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4267080" y="51436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3047760" y="5371920"/>
            <a:ext cx="609480" cy="39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46240" y="5543640"/>
            <a:ext cx="508320" cy="39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587560" y="5372280"/>
            <a:ext cx="304920" cy="39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5892840" y="53722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12880" y="0"/>
            <a:ext cx="8331120" cy="51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RUTURA  DO  CUR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canismos  de  estrutu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ylla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odulariz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quisi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azos de Trabal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valiação  F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ecnologias  de Comunic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ecnologias  de  Apresen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ogramas  Educacionais c/Comput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14600" y="5257800"/>
            <a:ext cx="5308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u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édia    Estru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14400" y="2000160"/>
            <a:ext cx="75182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ouca  estru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urso individualizado por alu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trole na mão do aluno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cesso Cri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1680" y="609480"/>
            <a:ext cx="911232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édia  estru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guns componentes do cur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dividual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utros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ixos / padron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guais para todos os aluno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cesso Relacion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2T02:11:43Z</dcterms:created>
  <dc:creator>DCC</dc:creator>
  <dc:description/>
  <dc:language>en-US</dc:language>
  <cp:lastModifiedBy>maria de lourdes coelho</cp:lastModifiedBy>
  <cp:lastPrinted>2001-06-22T06:47:47Z</cp:lastPrinted>
  <dcterms:modified xsi:type="dcterms:W3CDTF">2003-04-25T12:58:15Z</dcterms:modified>
  <cp:revision>16</cp:revision>
  <dc:subject/>
  <dc:title>Slide sem título </dc:title>
</cp:coreProperties>
</file>