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95A-D62B-4CC4-BC5B-5E5BB130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C356-96D2-4569-969E-D5B987D3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F8C-05BE-49F2-94FD-7822706C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B390-9631-45E7-975D-67E73EC6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4CD-E5B8-4C3B-9C23-15BEF719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1D9-8E45-45DB-9C4D-BF5ED514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1FE2-DFDF-4E2B-8E27-D43115AD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74C1-B8E9-459D-90D7-5FDCBC46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2501-02ED-42F1-808B-0384EE76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0A31-1554-466B-AAE6-DFDFE6FD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CBA-C5A8-49EE-B995-C829F8B2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D74-A5D5-4F72-892E-5FFC5F3F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BFD5-2707-425A-B89C-EC1860C03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7440" y="1714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tância 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89440" y="154296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a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57184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336760" y="2743200"/>
            <a:ext cx="711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0760" y="342900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tância  Pedag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4000680"/>
            <a:ext cx="26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1360" y="2228760"/>
            <a:ext cx="0" cy="337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35240" y="5257800"/>
            <a:ext cx="5384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ISTÂNCIA  INT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 Transacional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88520" y="1714680"/>
            <a:ext cx="62402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te 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rso padronizado / f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esmo para todos os alu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cesso Seqü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27280" y="800280"/>
            <a:ext cx="5689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rso Baseado em Correio Eletrô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vro Eletrô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ntor On-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trução  Progra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utor com Telef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rso por Correspond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5200560"/>
            <a:ext cx="426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íveis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5372280"/>
            <a:ext cx="111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27280" y="22860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ssibilidades  Confli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6440" y="120024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031840" y="1257480"/>
            <a:ext cx="3454560" cy="2342880"/>
            <a:chOff x="2031840" y="1257480"/>
            <a:chExt cx="3454560" cy="2342880"/>
          </a:xfrm>
        </p:grpSpPr>
        <p:sp>
          <p:nvSpPr>
            <p:cNvPr id="86" name=""/>
            <p:cNvSpPr/>
            <p:nvPr/>
          </p:nvSpPr>
          <p:spPr>
            <a:xfrm flipV="1">
              <a:off x="2031840" y="1257480"/>
              <a:ext cx="0" cy="23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1840" y="3600360"/>
              <a:ext cx="345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876920" y="3772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ál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6920" y="1771560"/>
            <a:ext cx="826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u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365760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uco        Médio          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1360" y="4191120"/>
            <a:ext cx="7518240" cy="20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o 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estrutu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n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hance de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en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strutu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hance de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5029200"/>
            <a:ext cx="111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943600"/>
            <a:ext cx="111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22360" y="1200240"/>
            <a:ext cx="7721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en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istância Int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AIX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la part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sta de discu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35720" y="514440"/>
            <a:ext cx="36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ai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istância Int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20840" y="1600200"/>
            <a:ext cx="42670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ixo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ixa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ixo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te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édio 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te 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édio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ixa 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17440" y="160020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7440" y="262908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17440" y="365760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17440" y="468648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83360" y="1600200"/>
            <a:ext cx="30477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xto corrido s/ índ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la exposi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 c/ exercício resolv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83360" y="3276720"/>
            <a:ext cx="28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trução program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p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4648320"/>
            <a:ext cx="355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grama Educacional c/comput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L   -  CB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5715000"/>
            <a:ext cx="180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rreio Eletrô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7440" y="857160"/>
            <a:ext cx="7213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TÂNCIA  INTE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UTONOMIA  DE  APRENDIZ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400480"/>
            <a:ext cx="16257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ância Int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is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235240" y="3123720"/>
            <a:ext cx="3784680" cy="2305440"/>
            <a:chOff x="2235240" y="3123720"/>
            <a:chExt cx="3784680" cy="2305440"/>
          </a:xfrm>
        </p:grpSpPr>
        <p:sp>
          <p:nvSpPr>
            <p:cNvPr id="108" name=""/>
            <p:cNvSpPr/>
            <p:nvPr/>
          </p:nvSpPr>
          <p:spPr>
            <a:xfrm flipV="1">
              <a:off x="2235240" y="3123720"/>
              <a:ext cx="0" cy="23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35240" y="5429160"/>
              <a:ext cx="378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245720" y="56008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utono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ecessá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4240" y="3371760"/>
            <a:ext cx="8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aix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43880" y="5543640"/>
            <a:ext cx="294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aixa           Média             A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362320" y="3657240"/>
            <a:ext cx="3759120" cy="1219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27280" y="6343560"/>
            <a:ext cx="1930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62160" y="914400"/>
            <a:ext cx="4451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TÂNCIA  INTE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UTONOMIA  DE  APRENDIZ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514600"/>
            <a:ext cx="75186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istância  Interativa  Muito A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cessita  Alunos com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utonomia  A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iminu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  Cada  Vez  Mais a Autonomia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  Alu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" y="4400640"/>
            <a:ext cx="7416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istância  Interativa  Muito Bai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om p/  Alunos com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utonomia  Bai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iminu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  Ainda mais  Mais a Autonomia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  Alu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28800" y="5715000"/>
            <a:ext cx="5931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TÂNCIA  INT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TONOMIA  DE  APRENDIZ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542960"/>
            <a:ext cx="28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6080" y="628560"/>
            <a:ext cx="55879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pos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lest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az Tudo pelo Alun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põe e faz exercí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unicador Multimí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nç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90440" y="428616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886200"/>
            <a:ext cx="37591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es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radu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sino Funda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571680"/>
            <a:ext cx="0" cy="28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382896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11360" y="609480"/>
            <a:ext cx="8026200" cy="53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RENDIZAGEM  COOP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Baixa Distância  Inte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álogo A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uca 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o d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Tecnologia de Colabo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ível  Cri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nde  a 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umentar  a  Autonom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de  Aprendizagem  do  Alu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4572000"/>
            <a:ext cx="0" cy="628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96920" y="2000160"/>
            <a:ext cx="39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ISTÂNCIA  INT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4040" y="3257640"/>
            <a:ext cx="3962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41680" y="2857680"/>
            <a:ext cx="0" cy="12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685800"/>
            <a:ext cx="6908760" cy="33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cnologi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erramentas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f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rreio Eletrô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ó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4971960"/>
            <a:ext cx="32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4572000"/>
            <a:ext cx="3149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3880" y="1486080"/>
            <a:ext cx="5079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28600"/>
            <a:ext cx="782316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álogo  Ba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  Unidire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la  ex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áginas 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ídeo Confer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ecnologia de Distribu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77480" y="542916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92840" y="542916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65560" y="5600880"/>
            <a:ext cx="1117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22360" y="743040"/>
            <a:ext cx="6807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álogo  Mé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  Bi-dire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la  particip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lef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rreio Eletrô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ecnologia Int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77480" y="542916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92840" y="542916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65560" y="5486400"/>
            <a:ext cx="1117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165560" y="582948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457200"/>
            <a:ext cx="8128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álogo  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  Multidire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sta de Discu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ó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ecnologia de Colabo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79000" y="48578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485784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65560" y="4915080"/>
            <a:ext cx="1117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577224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267080" y="5143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047760" y="5371920"/>
            <a:ext cx="60948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46240" y="5543640"/>
            <a:ext cx="50832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587560" y="5372280"/>
            <a:ext cx="30492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892840" y="53722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12880" y="0"/>
            <a:ext cx="8331120" cy="51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RUTURA  DO  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canismos  de  estrutu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ylla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odular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azos de Trabal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valiação  F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ogias  de Comun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ogias  de  Apresen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gramas  Educacionais c/Compu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5257800"/>
            <a:ext cx="5308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u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dia   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4400" y="2000160"/>
            <a:ext cx="75182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uca 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rso individualizado por 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le na mão do alun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cesso Cri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1680" y="609480"/>
            <a:ext cx="91123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édia 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ns componentes do cur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ividu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o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xos / padron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guais para todos os alu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cesso Relaci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02:11:43Z</dcterms:created>
  <dc:creator>DCC</dc:creator>
  <dc:description/>
  <dc:language>en-US</dc:language>
  <cp:lastModifiedBy>maria de lourdes coelho</cp:lastModifiedBy>
  <cp:lastPrinted>2001-06-22T06:47:47Z</cp:lastPrinted>
  <dcterms:modified xsi:type="dcterms:W3CDTF">2003-04-25T12:58:15Z</dcterms:modified>
  <cp:revision>16</cp:revision>
  <dc:subject/>
  <dc:title>Slide sem título </dc:title>
</cp:coreProperties>
</file>