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426-1C19-49A0-87A1-631A030B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D48-3DF7-446A-90C6-DD2A9D08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3A3-D30A-432F-BBC1-3785AFBD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5D4-7E47-4A8F-84F7-AD437D07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E5B-46F8-4EA1-859E-D48765D9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4F2-861B-49CC-9376-9E558EA5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A13-FE0B-4531-900C-8946142F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ECF-3367-4353-AF22-AC0B2173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211-4A6E-466F-9605-62609CDA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EF7-6873-4C56-89FF-13242506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8BFD-6456-403A-9599-B6157CFE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82B-CFA7-4855-B0A6-FA928360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0F29-979E-465E-A509-A1EEE41A3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4480" y="1523880"/>
            <a:ext cx="8150040" cy="3430800"/>
            <a:chOff x="384480" y="1523880"/>
            <a:chExt cx="8150040" cy="3430800"/>
          </a:xfrm>
        </p:grpSpPr>
        <p:grpSp>
          <p:nvGrpSpPr>
            <p:cNvPr id="42" name=""/>
            <p:cNvGrpSpPr/>
            <p:nvPr/>
          </p:nvGrpSpPr>
          <p:grpSpPr>
            <a:xfrm>
              <a:off x="1142640" y="2514600"/>
              <a:ext cx="305280" cy="837720"/>
              <a:chOff x="1142640" y="2514600"/>
              <a:chExt cx="305280" cy="837720"/>
            </a:xfrm>
          </p:grpSpPr>
          <p:sp>
            <p:nvSpPr>
              <p:cNvPr id="43" name=""/>
              <p:cNvSpPr/>
              <p:nvPr/>
            </p:nvSpPr>
            <p:spPr>
              <a:xfrm>
                <a:off x="1143000" y="251460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29528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95280" y="3106080"/>
                <a:ext cx="10152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1142640" y="3106080"/>
                <a:ext cx="1522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143000" y="2859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2895480" y="15238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2514600"/>
              <a:ext cx="91440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3200" y="41907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447920" y="220932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447920" y="289512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3880" y="3200400"/>
              <a:ext cx="1295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3880" y="342900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7000" y="1981080"/>
              <a:ext cx="15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vegar pelo catálo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45000" y="300168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squisar produ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7160" y="3840120"/>
              <a:ext cx="13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r preço dos it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3680" y="467820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icitar inform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76400" y="2514600"/>
              <a:ext cx="290880" cy="837720"/>
              <a:chOff x="5576400" y="2514600"/>
              <a:chExt cx="290880" cy="83772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576040" y="2514600"/>
                <a:ext cx="2905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2184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625360" y="3106080"/>
                <a:ext cx="964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22200" y="3106080"/>
                <a:ext cx="1450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5576400" y="285948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H="1" flipV="1">
              <a:off x="4267080" y="2209320"/>
              <a:ext cx="13096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4267080" y="2895120"/>
              <a:ext cx="13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267080" y="3200400"/>
              <a:ext cx="12369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733560" y="3429000"/>
              <a:ext cx="1770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23619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012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095880" y="2590200"/>
              <a:ext cx="137160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880" y="3017880"/>
              <a:ext cx="144792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49640" y="2879640"/>
              <a:ext cx="72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dast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98960" y="3840120"/>
              <a:ext cx="6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4480" y="3429000"/>
              <a:ext cx="133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convi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3680" y="3429000"/>
              <a:ext cx="130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registr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65400" y="270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efa B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2:41:30Z</dcterms:created>
  <dc:creator>mlcoelho</dc:creator>
  <dc:description/>
  <dc:language>en-US</dc:language>
  <cp:lastModifiedBy>mlcoelho</cp:lastModifiedBy>
  <dcterms:modified xsi:type="dcterms:W3CDTF">2003-12-10T12:45:30Z</dcterms:modified>
  <cp:revision>2</cp:revision>
  <dc:subject/>
  <dc:title>Apresentação do PowerPoint</dc:title>
</cp:coreProperties>
</file>