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9CE-51B7-435C-8351-C3BF59CB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AC00-06DC-4448-8796-D2A90B14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0F4-4C4D-49AE-AF02-E3A75709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44C4-2829-4AC6-A1CA-4EA31026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F07-4D26-4B09-B74F-2E1529D3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E63-2A3E-4DFE-9AD7-1F10A830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9A6-F854-4A25-8546-CCD857D5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632-0639-41DB-BBD7-0B6CF3E4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3EB-3279-4A0F-B4B4-EE1CA514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DE38-4D7C-4622-8F40-BBDEC750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9A1-C03A-4CA0-AF1E-10DA4FC6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BCE1-C838-47D3-81AA-838D7EAA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B1E1-8D5C-4C63-A1A4-48A319FD398C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MBIENTES  DE  ESTU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8458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AÇ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EFATOS AUTÊNTICOS 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TUAÇÕES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ÇÃO DA INTERPRETAÇÃO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PÓTESES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EXTUALIZAÇÃO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ERÊNCIAS REAIS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RENDIZADO  COGNITIVO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 ESTÁGIO”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ABORAÇÃO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LHO EM GRUPO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AÇÕES MÚLTIPLAS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ÕES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IFESTAÇÕES  MÚLTIPLAS  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AÇÕES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19:27:26Z</dcterms:created>
  <dc:creator>maria de lourdes coelho</dc:creator>
  <dc:description/>
  <dc:language>en-US</dc:language>
  <cp:lastModifiedBy>maria de lourdes coelho</cp:lastModifiedBy>
  <dcterms:modified xsi:type="dcterms:W3CDTF">2003-04-29T19:27:46Z</dcterms:modified>
  <cp:revision>1</cp:revision>
  <dc:subject/>
  <dc:title>AMBIENTES  DE  ESTUDO</dc:title>
</cp:coreProperties>
</file>