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35A-A8D2-408C-9E4C-F23A2811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D3E-8165-4876-AE5D-54FC3D8C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424-FDB9-482C-B22D-16B8AD18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53B-6925-47F1-A16F-E412961A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4E36-6DC1-4F4B-916E-3555B210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0E70-8339-48DD-9648-20EA67A9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B50-7A1D-402F-B8E6-988FCF26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BB19-061E-45B9-8B46-4A0B4912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2DCC-FE66-42FB-8772-006FF411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40B-05F3-40C9-8C7D-0B48A060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FA5-94BB-4F4E-B499-38886375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7F7-4814-4861-9C24-6A5771F5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FA40-0C13-4D5E-98BD-CDD0F9E839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4480" y="1523880"/>
            <a:ext cx="8150040" cy="3430800"/>
            <a:chOff x="384480" y="1523880"/>
            <a:chExt cx="8150040" cy="3430800"/>
          </a:xfrm>
        </p:grpSpPr>
        <p:grpSp>
          <p:nvGrpSpPr>
            <p:cNvPr id="42" name=""/>
            <p:cNvGrpSpPr/>
            <p:nvPr/>
          </p:nvGrpSpPr>
          <p:grpSpPr>
            <a:xfrm>
              <a:off x="1142640" y="2514600"/>
              <a:ext cx="305280" cy="837720"/>
              <a:chOff x="1142640" y="2514600"/>
              <a:chExt cx="305280" cy="837720"/>
            </a:xfrm>
          </p:grpSpPr>
          <p:sp>
            <p:nvSpPr>
              <p:cNvPr id="43" name=""/>
              <p:cNvSpPr/>
              <p:nvPr/>
            </p:nvSpPr>
            <p:spPr>
              <a:xfrm>
                <a:off x="1143000" y="251460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9528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95280" y="3106080"/>
                <a:ext cx="10152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1142640" y="3106080"/>
                <a:ext cx="1522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43000" y="2859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895480" y="15238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514600"/>
              <a:ext cx="9144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41907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47920" y="22093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47920" y="289512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320040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3429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7000" y="1981080"/>
              <a:ext cx="15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vegar pelo catá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5000" y="300168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quisar produ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7160" y="384012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r preço dos it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3680" y="467820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icitar inform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76400" y="2514600"/>
              <a:ext cx="290880" cy="837720"/>
              <a:chOff x="5576400" y="2514600"/>
              <a:chExt cx="290880" cy="83772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576040" y="2514600"/>
                <a:ext cx="2905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2184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25360" y="3106080"/>
                <a:ext cx="964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22200" y="3106080"/>
                <a:ext cx="1450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576400" y="2859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4267080" y="2209320"/>
              <a:ext cx="13096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267080" y="2895120"/>
              <a:ext cx="13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267080" y="3200400"/>
              <a:ext cx="1236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33560" y="3429000"/>
              <a:ext cx="1770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23619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5880" y="2590200"/>
              <a:ext cx="137160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3017880"/>
              <a:ext cx="144792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49640" y="287964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dast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98960" y="384012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480" y="342900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convi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3680" y="3429000"/>
              <a:ext cx="130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regist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65400" y="270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efa B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41:30Z</dcterms:created>
  <dc:creator>mlcoelho</dc:creator>
  <dc:description/>
  <dc:language>en-US</dc:language>
  <cp:lastModifiedBy>aloizio</cp:lastModifiedBy>
  <dcterms:modified xsi:type="dcterms:W3CDTF">2003-12-19T20:58:18Z</dcterms:modified>
  <cp:revision>2</cp:revision>
  <dc:subject/>
  <dc:title>Apresentação do PowerPoint</dc:title>
</cp:coreProperties>
</file>