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688-4AF5-4FF8-8929-9A9EDDE0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7C7-D1F8-4436-AA5F-4B71E52C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54B-9D15-4726-B3BC-182BAC5C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0DD-061A-497B-BF4F-9789E624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895-C6A8-48A2-8A5D-718CB60D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5DE-07CD-4EEA-91F6-F28C099B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391-7055-43DD-A132-265FBB3A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26E-E91A-4595-9159-8EA127C6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C4A-7281-4FAD-8B0F-91EB06AA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C7B6-B61B-4628-B8F4-5F0E394C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6AD-F688-4443-8BAB-378073E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5B3-3502-44E3-BBF4-380B8A2B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154D-4907-4A42-906F-F8DA83682BB0}" type="slidenum">
              <a:rPr b="0" lang="pt-P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ES  DE  ESTU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45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BSERVAÇÃ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TEFATOS AUTÊNTICOS 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TUAÇÕE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ÇÃO DA INTERPRET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PÓTESE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EXTUALIZ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ÊNCIAS REAI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ENDIZADO  COGNITIV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 ESTÁGIO”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ABORAÇÃ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BALHO EM GRUPO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AÇÕES MÚLTIPLAS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USSÕES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IFESTAÇÕES  MÚLTIPLAS  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ÇÕES</a:t>
            </a:r>
            <a:r>
              <a:rPr b="0" lang="pt-P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19:27:26Z</dcterms:created>
  <dc:creator>maria de lourdes coelho</dc:creator>
  <dc:description/>
  <dc:language>en-US</dc:language>
  <cp:lastModifiedBy>maria de lourdes coelho</cp:lastModifiedBy>
  <dcterms:modified xsi:type="dcterms:W3CDTF">2003-04-29T19:27:46Z</dcterms:modified>
  <cp:revision>1</cp:revision>
  <dc:subject/>
  <dc:title>AMBIENTES  DE  ESTUDO</dc:title>
</cp:coreProperties>
</file>