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36B-620A-448D-AE69-645D7E52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CDA-88BE-4870-AD3F-6F84B09A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DE3-27A5-49E6-95DA-01921B59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F7D-8704-4FB0-957F-94F73821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306-7959-4EF3-BE02-CDA0DEE3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B15-65FF-47BF-A84C-F85ED07C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4EC-289D-4272-BAE4-B3A846FB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35A1-EA35-4276-B615-3A7E9F66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5F7-8321-4845-9A3A-D3D24AB3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64B-A5E0-4CBA-A031-5A761F90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4F8-421C-4880-B5BF-0DB4AE77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098-25D2-4090-92B8-D091C136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99A1-4E4B-4347-9BDD-09631C4DB5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4480" y="1523880"/>
            <a:ext cx="8150040" cy="3430800"/>
            <a:chOff x="384480" y="1523880"/>
            <a:chExt cx="8150040" cy="3430800"/>
          </a:xfrm>
        </p:grpSpPr>
        <p:grpSp>
          <p:nvGrpSpPr>
            <p:cNvPr id="42" name=""/>
            <p:cNvGrpSpPr/>
            <p:nvPr/>
          </p:nvGrpSpPr>
          <p:grpSpPr>
            <a:xfrm>
              <a:off x="1142640" y="2514600"/>
              <a:ext cx="305280" cy="837720"/>
              <a:chOff x="1142640" y="2514600"/>
              <a:chExt cx="305280" cy="837720"/>
            </a:xfrm>
          </p:grpSpPr>
          <p:sp>
            <p:nvSpPr>
              <p:cNvPr id="43" name=""/>
              <p:cNvSpPr/>
              <p:nvPr/>
            </p:nvSpPr>
            <p:spPr>
              <a:xfrm>
                <a:off x="1143000" y="251460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29528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295280" y="3106080"/>
                <a:ext cx="10152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>
                <a:off x="1142640" y="3106080"/>
                <a:ext cx="1522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143000" y="28594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2895480" y="15238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2514600"/>
              <a:ext cx="914400" cy="53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43200" y="41907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447920" y="220932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1447920" y="2895120"/>
              <a:ext cx="1371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3880" y="3200400"/>
              <a:ext cx="12956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3880" y="342900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37000" y="1981080"/>
              <a:ext cx="15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vegar pelo catá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45000" y="3001680"/>
              <a:ext cx="1335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squisar produ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7160" y="3840120"/>
              <a:ext cx="13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r preço dos ite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3680" y="4678200"/>
              <a:ext cx="142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icitar inform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576400" y="2514600"/>
              <a:ext cx="290880" cy="837720"/>
              <a:chOff x="5576400" y="2514600"/>
              <a:chExt cx="290880" cy="837720"/>
            </a:xfrm>
          </p:grpSpPr>
          <p:sp>
            <p:nvSpPr>
              <p:cNvPr id="61" name=""/>
              <p:cNvSpPr/>
              <p:nvPr/>
            </p:nvSpPr>
            <p:spPr>
              <a:xfrm flipH="1">
                <a:off x="5576040" y="2514600"/>
                <a:ext cx="2905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21840" y="2810160"/>
                <a:ext cx="0" cy="29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625360" y="3106080"/>
                <a:ext cx="964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22200" y="3106080"/>
                <a:ext cx="145080" cy="24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5576400" y="2859480"/>
                <a:ext cx="29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 flipV="1">
              <a:off x="4267080" y="2209320"/>
              <a:ext cx="13096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4267080" y="2895120"/>
              <a:ext cx="13096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267080" y="3200400"/>
              <a:ext cx="12369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733560" y="3429000"/>
              <a:ext cx="1770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236196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0120" y="3352680"/>
              <a:ext cx="9144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95880" y="2590200"/>
              <a:ext cx="137160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880" y="3017880"/>
              <a:ext cx="144792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49640" y="2879640"/>
              <a:ext cx="72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dast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98960" y="384012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4480" y="3429000"/>
              <a:ext cx="133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convid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13680" y="3429000"/>
              <a:ext cx="130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uário registr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65400" y="2700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efa B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2:41:30Z</dcterms:created>
  <dc:creator>mlcoelho</dc:creator>
  <dc:description/>
  <dc:language>en-US</dc:language>
  <cp:lastModifiedBy>aloizio</cp:lastModifiedBy>
  <dcterms:modified xsi:type="dcterms:W3CDTF">2003-12-19T20:58:18Z</dcterms:modified>
  <cp:revision>2</cp:revision>
  <dc:subject/>
  <dc:title>Apresentação do PowerPoint</dc:title>
</cp:coreProperties>
</file>