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30A-9744-4488-B1C6-C23AB3CB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9D7-28EF-4F01-BC0A-A2ADCAAD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E5D-81C6-49C3-9690-961CFD8E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D37-EEC9-4B63-8C60-A248B574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6DC-1A24-4CB0-9507-033F206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A94-0B92-4356-AA05-EA540CB5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D08-0B38-481D-ACCB-21655163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7B2-17EF-4F3D-968E-E840D7CE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06D-004E-4E65-A289-996E404D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24F-29C6-4535-A086-0ED46D4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4BF2-DB3C-4873-978F-1DC4A61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80A-826C-4F30-906C-D5B6CF1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D244-B0CF-4600-9383-B5BA9655E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mlcoelho</cp:lastModifiedBy>
  <dcterms:modified xsi:type="dcterms:W3CDTF">2003-12-10T12:45:30Z</dcterms:modified>
  <cp:revision>2</cp:revision>
  <dc:subject/>
  <dc:title>Apresentação do PowerPoint</dc:title>
</cp:coreProperties>
</file>